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AFDE-2F17-42A7-AE23-DD210A0AA7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breaks down starch into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breaks down large starch molecules into small starch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is made in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rotein molecules are made up of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 are enzymes that act specifically on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breaks down starch into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breaks down large starch molecules into small starch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is made in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rotein molecules are made up of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 are enzymes that act specifically on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77EB-7ED6-4158-B7F6-B96352E6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CF08-AABC-4BA5-A433-18282543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A47-9F2B-4E0C-AD96-0A4D69C6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FEA5-1DB0-443C-933B-C3B1FE3B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CC3-2793-45E8-A2CA-36B4056F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D8BB-FF02-4E66-87BF-448E38B5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41A-799B-43B1-AC14-D71B2541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98D-F3BD-46E2-81FC-2CEED0ED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CB76-52F0-4EA4-ADD5-2001D8C1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B863-ACDE-41A5-9E3A-18046E91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9A4-BD38-47FE-8F3A-4DBDB0B2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E4C-E705-4953-8EAB-A86BA5F0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8C74-ED5A-44C5-ACB9-970E29D331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lionden.com/peristalsis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0360" y="3213000"/>
            <a:ext cx="223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66"/>
                </a:solidFill>
                <a:latin typeface="Arial"/>
              </a:rPr>
              <a:t>Amylase breaks down starch into malt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628640"/>
            <a:ext cx="2664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ff00"/>
                </a:solidFill>
                <a:latin typeface="Arial"/>
              </a:rPr>
              <a:t>Bile breaks down large starch molecules into small starch molecu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859280" y="1916280"/>
            <a:ext cx="22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99"/>
                </a:solidFill>
                <a:latin typeface="Arial"/>
              </a:rPr>
              <a:t>Bile is made in the liv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68360" y="5445000"/>
            <a:ext cx="2879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268360" y="3933720"/>
            <a:ext cx="3384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9900"/>
                </a:solidFill>
                <a:latin typeface="Arial"/>
              </a:rPr>
              <a:t>Large protein molecules are made up of protea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076720" y="5445000"/>
            <a:ext cx="3311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99ff"/>
                </a:solidFill>
                <a:latin typeface="Arial"/>
              </a:rPr>
              <a:t>Lipases are enzymes that act specifically on protei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-pasta-fusilli"/>
          <p:cNvPicPr/>
          <p:nvPr/>
        </p:nvPicPr>
        <p:blipFill>
          <a:blip r:embed="rId1"/>
          <a:stretch/>
        </p:blipFill>
        <p:spPr>
          <a:xfrm>
            <a:off x="1116000" y="1628640"/>
            <a:ext cx="7199280" cy="4835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labamba_steak_rib_eye"/>
          <p:cNvPicPr/>
          <p:nvPr/>
        </p:nvPicPr>
        <p:blipFill>
          <a:blip r:embed="rId1"/>
          <a:stretch/>
        </p:blipFill>
        <p:spPr>
          <a:xfrm>
            <a:off x="2268360" y="1557360"/>
            <a:ext cx="5040360" cy="48816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gda_07_tatura_butter"/>
          <p:cNvPicPr/>
          <p:nvPr/>
        </p:nvPicPr>
        <p:blipFill>
          <a:blip r:embed="rId1"/>
          <a:srcRect l="0" t="16416" r="0" b="10520"/>
          <a:stretch/>
        </p:blipFill>
        <p:spPr>
          <a:xfrm>
            <a:off x="1258920" y="1806480"/>
            <a:ext cx="6913440" cy="50515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heeseburger"/>
          <p:cNvPicPr/>
          <p:nvPr/>
        </p:nvPicPr>
        <p:blipFill>
          <a:blip r:embed="rId1"/>
          <a:stretch/>
        </p:blipFill>
        <p:spPr>
          <a:xfrm>
            <a:off x="826920" y="603360"/>
            <a:ext cx="7704360" cy="62546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56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Anatomy_and_physiology_of_animals_Peristalis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324000" y="6165720"/>
            <a:ext cx="50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ionden.com/peristalsi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6:53:37Z</dcterms:created>
  <dc:creator>CEC</dc:creator>
  <dc:description/>
  <dc:language>en-US</dc:language>
  <cp:lastModifiedBy>LEGION2</cp:lastModifiedBy>
  <dcterms:modified xsi:type="dcterms:W3CDTF">2016-01-14T08:53:02Z</dcterms:modified>
  <cp:revision>7</cp:revision>
  <dc:subject/>
  <dc:title>Digestion and Peristalsis</dc:title>
</cp:coreProperties>
</file>